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DIYGo550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5992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B89F-659C-468C-ADCD-CBCF00B9C000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0F88-0AEF-4367-863A-73350C4EE3FA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0B2B-8514-4261-ADF7-899BFF8D129A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당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M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이미 점유율이 높아질 대로 높아진 윈도우에 대해 강도 높은 단속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발 후 합의금으로 수많은 돈을 뜯어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당시 점유율이 낮았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S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워드나 익스플로러에 대해서는 그러한 조사 하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심지어 익스플로러는 점유율을 높이기 위해 윈도우에 공짜로 끼워 팔기도 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는 독점 방지법 위반으로 소송당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소프트웨어라는 것들이 대부분 사용에 익숙해지면 다른 제품으로 옮겨가기 어려운 특성 있기 때문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많은 회사들이 소프트웨어 점유율을 높이는 데 총력을 다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를 위해서 오히려 불법복제를 장려하거나 눈감기도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B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O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제공하기 위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QDO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라이선스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에 구입하여 수정한 버전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S-DO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카피당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달러에 판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떼돈을 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것은 정당한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초로 성공을 맞이한 개발자는 이전 개발자들의 노고를 계승하여 돌 하나를 얹은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음 개발자도 그럴 수 있어야 하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이 가로막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미 이루어낸 일을 또다시 알아내기 위해 쓸데없는 노력을 낭비해야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18C-59B3-4D86-851C-18B4EDAAD470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01FE-808D-407B-87E2-29088820BC1B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01A8-DA22-4561-997B-E3795B189B82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405B-C436-48B6-AC95-B9427143A892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54C2-4F80-4748-8213-53BFAC7CB7BC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저작자의 허가를 받지 않은 불법 복제를 허용하겠다는 것이 아니란 점에 유의할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유로운 공동체를 복원하겠다는 것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5A66-6091-471E-BFFD-878CAB33B0D2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6943-852C-457E-BB2F-69A8E4AA10A0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338E-ED4E-4681-A143-D39B68C11B66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4D7A-9A39-4CA0-A6C8-07C83F0FD38D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45E6-0D91-41AF-A235-6541C3FD6E98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028960"/>
                <a:tab algn="l" pos="4057560"/>
                <a:tab algn="l" pos="6086520"/>
                <a:tab algn="l" pos="8115480"/>
                <a:tab algn="l" pos="101440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독점적이고 비밀에 쌓인 소프트웨어는 먼저 싸우기부터 하는 주자들과 도덕적으로 동일하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891D-707F-4C93-9270-036BCB9CFE91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안정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안성 면에서 탁월하다는 인정 받고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C0DC-F493-4DA1-9702-9F1067A8D017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6C06-4B33-4392-A908-43F655E6EC08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AA67-E9E5-4230-8722-EE9E660FFF38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64D2-7C2D-4803-B840-9E360DD79F61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리누스 토발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–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난 매우 게으른 사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런 정책은 자유 소프트웨어에만 해당되는 것은 아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많은 개발자들은 엄청난 협력을 하고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소스 공개를 통한 개발 효율성을 강조하는 일군의 무리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픈 소스 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분류하기도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의 사항은 에릭 레이먼드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당과 시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라는 글에서 얘기한 내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6CAA-39B7-433D-B535-602C29B85C50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 게임 회사의 수익모델은 게임방에 게임을 판매하는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소프트웨어 개발자들이 다른 종류의 수익모델을 좋아하는지도 잘 모르겠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광고를 통한 수익이나 서비스 지원을 통한 수익보다는 제품 판매를 통한 수익이 더 공정하거나 깔끔하다고 생각하는 사람 많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회간접자본 역할을 한 오픈 소스 소프트웨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제로보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GP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아니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태터툴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CD55-7A61-4A32-BC20-314018337EAC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6A32-A564-4E50-9AA3-661F10376C08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60E0-CE29-4745-B28B-18523D4010E3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용 허가 없이 저작물을 입수하거나 복제하거나 배포하거나 개정해서 재배포하는 것 등은 모두 불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용 허가를 받으려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저작자에게 그에 상응하는 대가를 지불하도록 저작자에게 권리를 준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6709-8EFF-45F2-A8E7-B425C2960DD6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1560" indent="-114156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5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든 소프트웨어 소스 공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1141560" indent="-114156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상용 소프트웨어 등장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직까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T&amp;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UNI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소스 코드 공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1141560" indent="-114156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7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UNI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라이센스 수수료 인상과 소스코드 접근 제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[P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등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1141560" indent="-114156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8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P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산업의 확대 및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용 소프트웨어의 산업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[M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급부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114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367F-E870-4727-8003-0EF56AC7FF86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0836-6918-4A41-B991-140F96A20F25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CB72-E78B-4E0C-BCE5-1D9B96DF598D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한글은 여섯 번 주인 바뀜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불법복제 때문만은 아닐지라도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1998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년 한컴의 부도 사태는 불법복제의 심각성을 깨닫게 함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).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나모는 한 때 시장의 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80%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를 점유하는 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SW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를 만들어내면서 승승장구했다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하지만 나모의 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영광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은 순간에 머물렀다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이 회사는 결국 경영악화로 세중여행에 인수됐으며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SW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가 아닌 다른 분야 사업에 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곁눈질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을 하며 지내야했다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이러다 보니 개인 소프트웨어 시장보다는 라이선스 관리가 쉬운 기업 소프트웨어로 사업영역을 돌리거나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아니면 기업에게만 높은 값으로 라이선스 수수료를 청구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또는 소송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B77C-5515-4C46-B12D-2ADACEABB44D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30080"/>
            <a:ext cx="4872240" cy="3656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미국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%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도 수준으로 꽤 낮은 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이찬진 사장은 “지나친 불법복제가 아래아한글을 포기하도록 만들었다”고 말한 바 있다</a:t>
            </a:r>
            <a:r>
              <a:rPr b="0" lang="en-US" sz="27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불법복제가 소프트웨어 산업을 죽이고 있다는 얘기다</a:t>
            </a:r>
            <a:r>
              <a:rPr b="0" lang="en-US" sz="2700" spc="-1" strike="noStrike">
                <a:solidFill>
                  <a:srgbClr val="000000"/>
                </a:solidFill>
                <a:latin typeface="맑은 고딕"/>
              </a:rPr>
              <a:t>. MS</a:t>
            </a: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의 빌 게이츠 회장도 “지적재산권의 보호에 철저한 미국이 아니었다면 자신의 성공은 불가능했을 것”이라고 말하기도 했다</a:t>
            </a:r>
            <a:r>
              <a:rPr b="0" lang="en-US" sz="27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E9AE-FD67-48C8-833B-A7408542C1B9}" type="slidenum"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482-7AA7-4990-B42C-1D36291C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632-FB36-4C45-8476-9435E1FD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68A-A885-4FD7-9579-D4860A88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283-DD67-40DB-BCE6-BDD6F8E3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255-A603-4054-9B11-42341873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996-0CA8-4F96-8C17-BD662289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5CC-3F17-4D9A-A0F0-7B992271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0E2-B346-4768-A0B7-3F46DA9F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45A-CBC4-4351-8D3A-9C097ABB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2BB-9C06-483A-AAFE-505AFC6E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ED5-4FA0-436C-B84A-4C0F9581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980-B83C-49E8-8B65-85C04608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DIYGo550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74D6-C85F-4620-BA2D-A09BAA2BF12B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ann.nate.com/video/21763890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ulryung.tistory.com/132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소프트웨어는 어떻게 해야 발전할까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?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리차드 스톨만 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vs.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빌 게이츠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4005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2011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12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월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일 정동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9" name="Picture 2" descr="http://postfiles7.naver.net/20091004_22/bsadreamalba_1254652753445yryoh_jpg/tal10_bsadreamalba.jpg?type=w2"/>
          <p:cNvPicPr/>
          <p:nvPr/>
        </p:nvPicPr>
        <p:blipFill>
          <a:blip r:embed="rId1"/>
          <a:stretch/>
        </p:blipFill>
        <p:spPr>
          <a:xfrm>
            <a:off x="0" y="189000"/>
            <a:ext cx="9155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불법 복제만 잡으면 오케이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독점을 통한 과도한 수익은 문제 없나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과도한 저작권 보호가 경쟁자의 씨를 말림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불법복제가 이렇게 없어지지 않는 이유는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너무나 쉽기 때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!!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혹시 복제를 막는 것이 오히려 부자연스러운 것은 아닐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소프트웨어는 자유다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84" name="Picture 2" descr="http://upload.wikimedia.org/wikipedia/commons/thumb/2/22/Heckert_GNU_white.svg/250px-Heckert_GNU_white.svg.png"/>
          <p:cNvPicPr/>
          <p:nvPr/>
        </p:nvPicPr>
        <p:blipFill>
          <a:blip r:embed="rId1"/>
          <a:stretch/>
        </p:blipFill>
        <p:spPr>
          <a:xfrm>
            <a:off x="755640" y="1844640"/>
            <a:ext cx="388764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87" name="Picture 2" descr="http://medias.ubuntu-lyon.org/faq/ubuntu/gnu-linux.png"/>
          <p:cNvPicPr/>
          <p:nvPr/>
        </p:nvPicPr>
        <p:blipFill>
          <a:blip r:embed="rId1"/>
          <a:stretch/>
        </p:blipFill>
        <p:spPr>
          <a:xfrm>
            <a:off x="1692360" y="-19080"/>
            <a:ext cx="5400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GNU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GNU is Not Unix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유닉스와 호환되는 자유 소프트웨어 시스템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자유 소프트웨어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= </a:t>
            </a: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무료 라이선스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+ </a:t>
            </a: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구속되지 않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목적에 상관없이 프로그램을 실행시킬 수 있는 자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필요에 따라서 프로그램을 개작할 수 있는 자유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실행 파일뿐 아니라 소스코드가 함께 공개되어야 함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무료 또는 유료로 프로그램을 재배포할 수 있는 자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00000"/>
                </a:solidFill>
                <a:latin typeface="Arial"/>
              </a:rPr>
              <a:t>개작된 프로그램의 이익을 공동체 전체가 얻을 수 있도록 이를 배포할 수 있는 자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자유의 제한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자유 소프트웨어를 누군가가 수정하더라도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것을 독점 소프트웨어로 소유할 자유는 없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즉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자유 소프트웨어의 수정본 역시 </a:t>
            </a:r>
            <a:br>
              <a:rPr sz="3000"/>
            </a:b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자유 소프트웨어로 남아야 함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GNU GPL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과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Copyleft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GNU General Public Licen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이 라이선스로 배포된 저작물은 누구에게나 사용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재배포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개정이 허용되나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개정된 저작물 역시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GNU GPL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로 배포되어야 한다는 구속력 가짐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애칭으로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Copyleft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라는 말을 얻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무엇이 이득인가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라이선스 비용의 절약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불필요한 노력의 중복을 줄이고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이렇게 절약된 노력은 기술 개선에 사용될 수 있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누구든지 시스템의 문제를 분석할 수 있고</a:t>
            </a:r>
            <a:br>
              <a:rPr sz="2800"/>
            </a:b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문제를 해결하기 위한 수정을 가할 수 있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양질의 소프트웨어 교육 제공할 수 있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소프트웨어 소유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사용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자격 부여에 관한 소모적인 문제 사라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00000"/>
                </a:solidFill>
                <a:latin typeface="Arial"/>
              </a:rPr>
              <a:t>사용료 체크를 위한 감시 비용 사라짐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2160" y="691920"/>
            <a:ext cx="77724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막대한 비용을 들여 공기를 생산하는 우주 정거장의 예를 생각한다면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이러한 경우 공기의 요금을 리터 단위로 지불하는 것은 합당할 것이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러나 호흡하는 공기의 양을 측정하기 위해서 계측기가 달린 방독면을 밤낮으로 쓰고 있어야 한다면 그런 방식은 지불 능력에 관계없이 타당한 것이 아니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또한 마스크를 벗고 있는지를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V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카메라가 언제 어디서나 항상 감시하고 있다면 이또한 옳지 않은 일이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따라서 이보다는 사람들에게 일정한 인두세를 부과하고 마스크를 벗어던지는 것이 현명하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” -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차드 스톨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&lt;GNU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선언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프로그래머는 어떻게 보상을 받는가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사회적 존경이나 명성과 같은 비금전적인 보상을 받고 있으며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창조적 작업은 이미 그 자체가 자신에게 흥미와 보상을 주는 것이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개인에 대한 최상의 보상을 위해 전체의 창의성을 저하시키는 것은 정당하지 못하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수익성은 떨어지겠지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저작권 소유를 통하지 않고서도 여전히 프로그래밍으로 돈을 벌 방법이 있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수익 모델은 무궁무진하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기부 또는 세금을 통한 방법도 가능하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ttp://cfile24.uf.tistory.com/image/202630464DB0695E0711CF"/>
          <p:cNvPicPr/>
          <p:nvPr/>
        </p:nvPicPr>
        <p:blipFill>
          <a:blip r:embed="rId1"/>
          <a:srcRect l="12196" t="0" r="11523" b="0"/>
          <a:stretch/>
        </p:blipFill>
        <p:spPr>
          <a:xfrm>
            <a:off x="826920" y="2416320"/>
            <a:ext cx="5905800" cy="4181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두 명의 해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pann.nate.com/video/2176389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경쟁과 금전적 특혜 없는 발전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주자들이 빨리 달리기 위해 경쟁하지 않고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다른 주자를 공격하는 전략을 사용한다면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사회적 피해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금전적 인센티브 없이도 명예와 같은 보상을 위해 수많은 프로그래머들이 코드 수정에 참여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증명 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: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리눅스의 엄청난 성공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1991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년 공개된 이후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엄청난 속도로 발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www.bloter.net/files/2011/08/linux_thenandnow-1-500x293.jpg"/>
          <p:cNvPicPr/>
          <p:nvPr/>
        </p:nvPicPr>
        <p:blipFill>
          <a:blip r:embed="rId1"/>
          <a:stretch/>
        </p:blipFill>
        <p:spPr>
          <a:xfrm>
            <a:off x="826920" y="2492280"/>
            <a:ext cx="633744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06" name="Picture 2" descr="http://www.bloter.net/files/2011/08/linux_thenandnow-2-500x254.jpg"/>
          <p:cNvPicPr/>
          <p:nvPr/>
        </p:nvPicPr>
        <p:blipFill>
          <a:blip r:embed="rId1"/>
          <a:stretch/>
        </p:blipFill>
        <p:spPr>
          <a:xfrm>
            <a:off x="250920" y="1052640"/>
            <a:ext cx="8505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09" name="Picture 2" descr="http://www.bloter.net/files/2011/08/linux_thenandnow-3-500x243.jpg"/>
          <p:cNvPicPr/>
          <p:nvPr/>
        </p:nvPicPr>
        <p:blipFill>
          <a:blip r:embed="rId1"/>
          <a:stretch/>
        </p:blipFill>
        <p:spPr>
          <a:xfrm>
            <a:off x="144360" y="1197000"/>
            <a:ext cx="8820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12" name="Picture 2" descr="http://xbmc-korea.com/xe/files/attach/images/76/840/023/android-logo-white.png"/>
          <p:cNvPicPr/>
          <p:nvPr/>
        </p:nvPicPr>
        <p:blipFill>
          <a:blip r:embed="rId1"/>
          <a:stretch/>
        </p:blipFill>
        <p:spPr>
          <a:xfrm>
            <a:off x="324000" y="1989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www.volunteeringsolutions.com/userfiles/logo_facebook.jpg"/>
          <p:cNvPicPr/>
          <p:nvPr/>
        </p:nvPicPr>
        <p:blipFill>
          <a:blip r:embed="rId2"/>
          <a:stretch/>
        </p:blipFill>
        <p:spPr>
          <a:xfrm>
            <a:off x="2916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sociallink.kr/wp-content/uploads/2010/02/twitter.jpg"/>
          <p:cNvPicPr/>
          <p:nvPr/>
        </p:nvPicPr>
        <p:blipFill>
          <a:blip r:embed="rId3"/>
          <a:stretch/>
        </p:blipFill>
        <p:spPr>
          <a:xfrm>
            <a:off x="5219640" y="1844640"/>
            <a:ext cx="3619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리눅스의 발전 메커니즘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핵심개발자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–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고급 사용자 그룹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공동개발자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소스를 이해하는 사용자들이 공동개발자가 됨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빨리 자주 발표하는 정책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–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왕성한 피드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안정 버전과 최신 베타 버전의 이원 정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누스의 법칙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“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보고 있는 눈이 충분히 많으면 찾지 못할 버그는 없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몇 가지 주의할 점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GNU/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눅스 시스템의 개발자들은 대부분 다른 소프트웨어 회사나 대학에 소속되어 있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소프트웨어를 이용한 다양한 수익모델이 등장하긴 했지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여전히 대표적인 수익모델은 제품과 기술지원에 대한 판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GNU/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눅스는 컴퓨터 문외한에게 분명 어려움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그럼에도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GNU/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눅스를 비롯한 각종 자유 소프트웨어들은 사회 간접 자본의 역할을 하고 있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읽을거리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누스 토발즈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“GNU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선언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리누스 토발즈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“GNU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프로젝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에릭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레이먼드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“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성당과 시장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소프트웨어 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: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저작물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55" name="Picture 2" descr="http://www.youtu.kr/files/attach/images/202/513/056/4e5de4458af86ef555664d641b67dd37.png"/>
          <p:cNvPicPr/>
          <p:nvPr/>
        </p:nvPicPr>
        <p:blipFill>
          <a:blip r:embed="rId1"/>
          <a:srcRect l="0" t="0" r="46742" b="16138"/>
          <a:stretch/>
        </p:blipFill>
        <p:spPr>
          <a:xfrm>
            <a:off x="755640" y="1773360"/>
            <a:ext cx="3529080" cy="395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postfiles3.naver.net/20110907_226/hi_calt_1315382401604AsvCB_JPEG/%C3%A5_1_1.JPG?type=w2"/>
          <p:cNvPicPr/>
          <p:nvPr/>
        </p:nvPicPr>
        <p:blipFill>
          <a:blip r:embed="rId2"/>
          <a:stretch/>
        </p:blipFill>
        <p:spPr>
          <a:xfrm>
            <a:off x="4500720" y="1916280"/>
            <a:ext cx="4287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저작권과 라이선스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저작자는 자신의 저작물의 사용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복제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배포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개정 등을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허가하거나 금지할 수 있는 배타적인 권리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즉 </a:t>
            </a:r>
            <a:r>
              <a:rPr b="1" lang="ko-KR" sz="3000" spc="-1" strike="noStrike">
                <a:solidFill>
                  <a:srgbClr val="c00000"/>
                </a:solidFill>
                <a:latin typeface="Arial"/>
              </a:rPr>
              <a:t>저작권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(copyright)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을 가짐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c00000"/>
                </a:solidFill>
                <a:latin typeface="Arial"/>
              </a:rPr>
              <a:t>예</a:t>
            </a:r>
            <a:r>
              <a:rPr b="0" lang="en-US" sz="2300" spc="-1" strike="noStrike">
                <a:solidFill>
                  <a:srgbClr val="c00000"/>
                </a:solidFill>
                <a:latin typeface="Arial"/>
              </a:rPr>
              <a:t>) Copyright © DongWook Jung. </a:t>
            </a:r>
            <a:r>
              <a:rPr b="0" lang="ko-KR" sz="2300" spc="-1" strike="noStrike">
                <a:solidFill>
                  <a:srgbClr val="c00000"/>
                </a:solidFill>
                <a:latin typeface="Arial"/>
              </a:rPr>
              <a:t>무단 전재 및 재배포 금지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이 권리를 통해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저작자는 저작물에 대한 </a:t>
            </a:r>
            <a:r>
              <a:rPr b="1" lang="ko-KR" sz="3000" spc="-1" strike="noStrike">
                <a:solidFill>
                  <a:srgbClr val="c00000"/>
                </a:solidFill>
                <a:latin typeface="Arial"/>
              </a:rPr>
              <a:t>사용허가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(license)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수수료로 이익을 창출할 수 있음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소프트웨어는 산업이다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61" name="Picture 2" descr="http://seeker401.files.wordpress.com/2011/07/microsoft.jpg"/>
          <p:cNvPicPr/>
          <p:nvPr/>
        </p:nvPicPr>
        <p:blipFill>
          <a:blip r:embed="rId1"/>
          <a:stretch/>
        </p:blipFill>
        <p:spPr>
          <a:xfrm>
            <a:off x="826920" y="177336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빌 게이츠의 공개 서한 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(1976)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27280" y="1712880"/>
            <a:ext cx="406692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hulryung.tistory.com/1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대부분의 사람들이 소프트웨어를 무단 복제해 사용하고 있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이러한 도둑질이 소프트웨어 개발 의욕을 꺾고 있다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사용자 삽입 이미지"/>
          <p:cNvPicPr/>
          <p:nvPr/>
        </p:nvPicPr>
        <p:blipFill>
          <a:blip r:embed="rId2"/>
          <a:stretch/>
        </p:blipFill>
        <p:spPr>
          <a:xfrm>
            <a:off x="611280" y="1684440"/>
            <a:ext cx="367344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불법 복제와의 싸움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사법적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저작권 침해에 대한 처벌과 감시 강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기술적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사용 및 복제 방지 기술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도입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암호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락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도덕적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저작권에 대한 인식 강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상업적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ko-KR" sz="3000" spc="-1" strike="noStrike">
                <a:solidFill>
                  <a:srgbClr val="c00000"/>
                </a:solidFill>
                <a:latin typeface="Arial"/>
              </a:rPr>
              <a:t>하드웨어 업체와의 제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cfile22.uf.tistory.com/image/151C85584DCBA8EF0E4426"/>
          <p:cNvPicPr/>
          <p:nvPr/>
        </p:nvPicPr>
        <p:blipFill>
          <a:blip r:embed="rId1"/>
          <a:stretch/>
        </p:blipFill>
        <p:spPr>
          <a:xfrm>
            <a:off x="2843280" y="383364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높은 점유율</a:t>
            </a:r>
            <a:r>
              <a:rPr b="0" lang="en-US" sz="4000" spc="-1" strike="noStrike">
                <a:solidFill>
                  <a:srgbClr val="000000"/>
                </a:solidFill>
                <a:latin typeface="YDIYGo550"/>
              </a:rPr>
              <a:t>, but </a:t>
            </a:r>
            <a:r>
              <a:rPr b="0" lang="ko-KR" sz="4000" spc="-1" strike="noStrike">
                <a:solidFill>
                  <a:srgbClr val="000000"/>
                </a:solidFill>
                <a:latin typeface="YDIYGo550"/>
              </a:rPr>
              <a:t>사업 실패</a:t>
            </a:r>
            <a:endParaRPr b="0" lang="en-US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0" name="Picture 4" descr="http://www.bloter.net/files/2009/12/h2010_logo.jpg"/>
          <p:cNvPicPr/>
          <p:nvPr/>
        </p:nvPicPr>
        <p:blipFill>
          <a:blip r:embed="rId1"/>
          <a:stretch/>
        </p:blipFill>
        <p:spPr>
          <a:xfrm>
            <a:off x="611280" y="1773360"/>
            <a:ext cx="3543120" cy="242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kdbimg.infomaster.co.kr/kshdavid_MTEuanBnXzEyNDE3MzQzNzc="/>
          <p:cNvPicPr/>
          <p:nvPr/>
        </p:nvPicPr>
        <p:blipFill>
          <a:blip r:embed="rId2"/>
          <a:stretch/>
        </p:blipFill>
        <p:spPr>
          <a:xfrm>
            <a:off x="4381560" y="1704960"/>
            <a:ext cx="2857320" cy="3092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3"/>
          <a:srcRect l="20297" t="60049" r="1447" b="4907"/>
          <a:stretch/>
        </p:blipFill>
        <p:spPr>
          <a:xfrm>
            <a:off x="190440" y="4626000"/>
            <a:ext cx="89535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000000"/>
              </a:solidFill>
              <a:latin typeface="YDIYGo550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5" name="Picture 2" descr="http://www.softgate.co.kr/img/img_main/notice_20080324_04.gif"/>
          <p:cNvPicPr/>
          <p:nvPr/>
        </p:nvPicPr>
        <p:blipFill>
          <a:blip r:embed="rId1"/>
          <a:stretch/>
        </p:blipFill>
        <p:spPr>
          <a:xfrm>
            <a:off x="468360" y="4653000"/>
            <a:ext cx="8675640" cy="168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news.hankyung.com/nas_photo/200906/2009062836101_2009062825891.jpg"/>
          <p:cNvPicPr/>
          <p:nvPr/>
        </p:nvPicPr>
        <p:blipFill>
          <a:blip r:embed="rId2"/>
          <a:stretch/>
        </p:blipFill>
        <p:spPr>
          <a:xfrm>
            <a:off x="971640" y="549360"/>
            <a:ext cx="381636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zolaist</cp:lastModifiedBy>
  <dcterms:modified xsi:type="dcterms:W3CDTF">2011-12-06T15:49:12Z</dcterms:modified>
  <cp:revision>26</cp:revision>
  <dc:subject/>
  <dc:title>컴퓨터는 어떻게  덧셈, 뺄셈을 할까?</dc:title>
</cp:coreProperties>
</file>